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E25-3723-46DC-8588-548444A1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E39-6307-40D3-AF62-64EB9A80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952-24E7-40D0-BD0D-D5D700B8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C47-3AC8-49BA-A36B-48B78356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0DD-6CB9-4CBA-8B64-D7DDB783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2C4-33C8-4353-8E50-43EE08B7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1D0-7A16-42C4-8D44-42EE95F8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394-8735-4356-8B04-7BBCC9A3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2FC5-9E3E-434C-88C4-4CF8C134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10A-412C-40A3-BA37-12B1483A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F26-CC98-489E-BE36-F8A29486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D4A-E3CC-4902-AD03-611689F1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2210-6711-4533-8112-CA7CE2144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Инфекције мокраћних путе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Проф. Др Радојица Стол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Факултет медицинских наука Крагујева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cc"/>
                </a:solidFill>
                <a:latin typeface="Calibri"/>
              </a:rPr>
              <a:t>Подела </a:t>
            </a:r>
            <a:r>
              <a:rPr b="1" lang="sr-RS" sz="4200" spc="-1" strike="noStrike">
                <a:solidFill>
                  <a:srgbClr val="0000cc"/>
                </a:solidFill>
                <a:latin typeface="Calibri"/>
              </a:rPr>
              <a:t>уринарних инфекција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Мокраћни систем се може поделити на</a:t>
            </a: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 горњи (бубрези, уретери, мокраћоводи)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</a:rPr>
              <a:t>доњи мокраћни систем (мокраћна бешика, уретра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Ова подела је битна јер инфекције горњег уринарног тракта се сматрају компликованим инфекцијама и често захтевају хоспитализациј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УИ погађају оба пола у било којој доби али се претежно јављају код жена (једна од пет одраслих жена оболи од ИУ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Симптоми инфекције доњег уринарног тракта-цистити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стало мокр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мнији или крвави у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чење при мокре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 у леђ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 у доњем диелу трбуха, у пределу мокраћне беш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Симптоми инфекције горњег уринарног тракта-пијелонефрити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чнина и повраћ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оз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ишена телесна температура (преко 38 степен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црпљ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тежим случајевима ментална дезоријентиса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0000cc"/>
                </a:solidFill>
                <a:latin typeface="Calibri"/>
              </a:rPr>
              <a:t>И</a:t>
            </a:r>
            <a:r>
              <a:rPr b="1" lang="sr-Latn-CS" sz="3900" spc="-1" strike="noStrike">
                <a:solidFill>
                  <a:srgbClr val="0000cc"/>
                </a:solidFill>
                <a:latin typeface="Calibri"/>
              </a:rPr>
              <a:t>нфекција доњих мокраћних путева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ff0000"/>
                </a:solidFill>
                <a:uFillTx/>
                <a:latin typeface="Calibri"/>
              </a:rPr>
              <a:t>С</a:t>
            </a:r>
            <a:r>
              <a:rPr b="0" lang="sr-Latn-CS" sz="2200" spc="-1" strike="noStrike" u="sng">
                <a:solidFill>
                  <a:srgbClr val="ff0000"/>
                </a:solidFill>
                <a:uFillTx/>
                <a:latin typeface="Calibri"/>
              </a:rPr>
              <a:t>индром уретре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(понављајуће или стално присуство учесталог мокрења и дизурије код жена код којих се УК изолује мање од 10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бактериј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ff0000"/>
                </a:solidFill>
                <a:uFillTx/>
                <a:latin typeface="Calibri"/>
              </a:rPr>
              <a:t>Ц</a:t>
            </a:r>
            <a:r>
              <a:rPr b="0" lang="sr-Latn-CS" sz="2200" spc="-1" strike="noStrike" u="sng">
                <a:solidFill>
                  <a:srgbClr val="ff0000"/>
                </a:solidFill>
                <a:uFillTx/>
                <a:latin typeface="Calibri"/>
              </a:rPr>
              <a:t>иститис: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запаљење мокраћне бешике са израженим дизуричним сметњама, бол у уретри за време а појачава се на крају мокрења, неиздржив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нагона за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крењем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, осећај непотпуног пражњења бешике, мокрење мале количине мокраће, осећај притиска и нелагодности у стомаку, ноћно мокрење, код жена немогућност задржавања мокраћ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дговор на терапију је у току 24-72 с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ојава системских симптома (температура, мука гаћење, повраћање,...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казује на инфекцију бубре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рин је замућен и има непријатан мирис, хематур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cc"/>
                </a:solidFill>
                <a:latin typeface="Calibri"/>
              </a:rPr>
              <a:t>И</a:t>
            </a: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нфекције горњег мокраћног сист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есталост је мања од инфекције мокраћне беш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звијају се асцедентним путем, као последица инфекције мокраћне беш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cc"/>
                </a:solidFill>
                <a:latin typeface="Calibri"/>
              </a:rPr>
              <a:t>Д</a:t>
            </a: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ијагноза инфекције мокраћног сист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бораторијски методи (уринокултур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кроскопски преглед урина (&gt;10 леукоцита у 1mm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дружено са симптоматском бактериуриј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ринокул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cc"/>
                </a:solidFill>
                <a:latin typeface="Calibri"/>
              </a:rPr>
              <a:t>Д</a:t>
            </a: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ијагноза инфекције мокраћног сист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тања у којима и мањи број бактерија указује на инфекцију су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Жене са симптомима инфекциј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олесници са симптомима инфекције мокраћних канала узимају веће количине течности што повећава диурезу и  смањује број бактериј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а дијагнозу сигнификантне бактериурије изаване </a:t>
            </a:r>
            <a:r>
              <a:rPr b="0" i="1" lang="sr-Latn-RS" sz="2300" spc="-1" strike="noStrike">
                <a:solidFill>
                  <a:srgbClr val="000000"/>
                </a:solidFill>
                <a:latin typeface="Calibri"/>
              </a:rPr>
              <a:t>Staphylococcus saprophyticusom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 довољан је 10</a:t>
            </a:r>
            <a:r>
              <a:rPr b="0" lang="sr-RS" sz="2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-10</a:t>
            </a:r>
            <a:r>
              <a:rPr b="0" lang="sr-RS" sz="23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sr-Latn-RS" sz="2300" spc="-1" strike="noStrike">
                <a:solidFill>
                  <a:srgbClr val="000000"/>
                </a:solidFill>
                <a:latin typeface="Calibri"/>
              </a:rPr>
              <a:t>m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рој бактерија код болесника са рекурентним инфекцијама и оштећењем уроепителијума не одражава у потпуности клиничку слику инфекције мокраћних канал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cc"/>
                </a:solidFill>
                <a:latin typeface="Calibri"/>
              </a:rPr>
              <a:t>Р</a:t>
            </a: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адиолошке и остале методе испитива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тивни снимак уротра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нтравенска пијелограф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лтрасонограф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стоскоп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родинамска 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 локализацију инфекције мокраћних канала важне су директне и индиректне мет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cc"/>
                </a:solidFill>
                <a:latin typeface="Calibri"/>
              </a:rPr>
              <a:t>Л</a:t>
            </a:r>
            <a:r>
              <a:rPr b="1" lang="sr-Latn-CS" sz="3200" spc="-1" strike="noStrike">
                <a:solidFill>
                  <a:srgbClr val="0000cc"/>
                </a:solidFill>
                <a:latin typeface="Calibri"/>
              </a:rPr>
              <a:t>ечење симптоматских инфекција доњег мокраћног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ечење се састоји од антибактеријских лекова и довољног уноса течност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 u="sng">
                <a:solidFill>
                  <a:srgbClr val="000000"/>
                </a:solidFill>
                <a:uFillTx/>
                <a:latin typeface="Calibri"/>
              </a:rPr>
              <a:t>Л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alibri"/>
              </a:rPr>
              <a:t>ечење болесника са првом и изолованом инфекцијом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пре свега подразумева узимање уринокултуре и то тзв.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singl-dose therapy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(лечење једном дозом антимикробног лек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 u="sng">
                <a:solidFill>
                  <a:srgbClr val="000000"/>
                </a:solidFill>
                <a:uFillTx/>
                <a:latin typeface="Calibri"/>
              </a:rPr>
              <a:t>Л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alibri"/>
              </a:rPr>
              <a:t>ечење болесника са рекурентним инфекцијам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(калкулоза, ожиљци, полицистични бубрези, простатитис), лечење се заснива на узимању довољно течности и често мокрење, као и Бактрима пре спавања, профилактички до године дана након последње инфекциј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осткоитално лечење, спермицидним агенсима или једнократна доза АБ након сексуалног однос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Лечење понављајућих У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ао и све инфекције тако и понављајуће УИ се лече </a:t>
            </a:r>
            <a:r>
              <a:rPr b="0" lang="sr-RS" sz="2700" spc="-1" strike="noStrike" u="sng">
                <a:solidFill>
                  <a:srgbClr val="000000"/>
                </a:solidFill>
                <a:uFillTx/>
                <a:latin typeface="Calibri"/>
              </a:rPr>
              <a:t>антибиотицима, минимално седам да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 случају </a:t>
            </a:r>
            <a:r>
              <a:rPr b="0" lang="sr-RS" sz="2700" spc="-1" strike="noStrike" u="sng">
                <a:solidFill>
                  <a:srgbClr val="000000"/>
                </a:solidFill>
                <a:uFillTx/>
                <a:latin typeface="Calibri"/>
              </a:rPr>
              <a:t>некомпликованих понављајућих УИ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могуће је дуготрајно </a:t>
            </a:r>
            <a:r>
              <a:rPr b="0" lang="sr-RS" sz="2700" spc="-1" strike="noStrike" u="sng">
                <a:solidFill>
                  <a:srgbClr val="000000"/>
                </a:solidFill>
                <a:uFillTx/>
                <a:latin typeface="Calibri"/>
              </a:rPr>
              <a:t>давање антибиотика у мањим дозама тзв. профилак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 обзир долази узимање </a:t>
            </a:r>
            <a:r>
              <a:rPr b="0" lang="sr-RS" sz="2700" spc="-1" strike="noStrike" u="sng">
                <a:solidFill>
                  <a:srgbClr val="000000"/>
                </a:solidFill>
                <a:uFillTx/>
                <a:latin typeface="Calibri"/>
              </a:rPr>
              <a:t>једне дозе антибиотика након полног одно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ко се понављајуће </a:t>
            </a:r>
            <a:r>
              <a:rPr b="0" lang="sr-RS" sz="2700" spc="-1" strike="noStrike" u="sng">
                <a:solidFill>
                  <a:srgbClr val="000000"/>
                </a:solidFill>
                <a:uFillTx/>
                <a:latin typeface="Calibri"/>
              </a:rPr>
              <a:t>УИ јављају у менопаузи могућа је хормонска надокнада терап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репоручује се </a:t>
            </a:r>
            <a:r>
              <a:rPr b="0" lang="sr-RS" sz="2700" spc="-1" strike="noStrike" u="sng">
                <a:solidFill>
                  <a:srgbClr val="000000"/>
                </a:solidFill>
                <a:uFillTx/>
                <a:latin typeface="Calibri"/>
              </a:rPr>
              <a:t>обилније узимање течности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да би се смањила концентрација бактерија у урин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Дефини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је општи назив за присуство микроорганизма у претходно стерилном мокраћном сист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о с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различити клинички синдроми који се деле према узрочницима, локализацији, присуству симптома, току или према присуству обољења који олакшавају њихов наста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Лечење</a:t>
            </a:r>
            <a:r>
              <a:rPr b="1" lang="sr-RS" sz="4400" spc="-1" strike="noStrike">
                <a:solidFill>
                  <a:srgbClr val="0000cc"/>
                </a:solidFill>
                <a:latin typeface="Calibri"/>
              </a:rPr>
              <a:t> цистити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ечење се спроводи адекватним антибиотицима и уроантисептиц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кундарни циститиси понекад захтевају хируршко збрињавање (хипертрофија простате, аномалија уретр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Л</a:t>
            </a: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ечење</a:t>
            </a: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 акутног пијелонефрити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Лечење се спроводи АБ и уроантисептицима 10-14 д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д компликованих случајева и хируршка корек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Л</a:t>
            </a: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ечење</a:t>
            </a: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 хроничног пијелонефити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нфекција се лечи према правилима лечења компликованих инфекција горњих мокраћних пут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имптоматски се лечи ХТА, тубулски поремећаји и ХБ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cc"/>
                </a:solidFill>
                <a:latin typeface="Calibri"/>
              </a:rPr>
              <a:t>Е</a:t>
            </a: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пидемиолог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днос инфекциј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је различит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према полу и животним доб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Пол и животни стил као фактори ризика за развој У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Због анатомије понављајуће УИ су најчешће код ж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Због кратке уретре и близине спољњег отвора уретре и ректума бактерије из дебелог црева лако дођу до мокраћне бешик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Зато је битно брисање након мокрења од напред према наза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енопауза такође погодује настанку УИ тако што хормони узрокују промене на слузнокожи материце, односно промени вагиналне бактеријске флор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Пол и животни стил као фактори ризика за развој У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д мушкараца су инфекције ређе те су најчешће узроковане повећаном простатом која узрокује отежано измокравање односно резидуални урин који погодује развоју инфекц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потреба дијафрагме као контрацепције повећава ризик за УИ делујући механички на уретру односно мокраћну бешик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потреба разних спермицида, туширање материце и употреба антибиотика погодује настанку У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Друге болести и стања која повећавају риз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Трудноћ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повећава ризик за ИУ делујући механички на мокраћну бешику а такође и метаболичк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Ношење трајног уринарног катетера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изузетно повећава ризик од инфекције звбог отвореног пута у мокраћну бешик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Метаболичке и ендокрине болести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као што је дијабетес узрокују ИУ ослабљеном функцијом мокраћне бешике и излучивањем шећера у урину који је погодна подлога за бактер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Понављајуће ИУ могу бити први симптом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каменаца мокраћног систем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Друге болести и стања која повећавају риз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стокела, уретерокела, ВУР, фистула- комуникација мокраћног система са дигестивним и/или гениталним систем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ретходне уролошке, хируршке или гинеколошке операц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уролошке болести са слабљењем функције мокраћног система (мултипла склероза, неурогени бешика, инкотиненциј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cc"/>
                </a:solidFill>
                <a:latin typeface="Calibri"/>
              </a:rPr>
              <a:t>Е</a:t>
            </a: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тиолог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Најчешће су то микроорганизми ендогеног порекла (саставни део дебелог црев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ајчешћи п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ут ширења ј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асцендентн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кроз уретру и то грам-негативне бактерије (</a:t>
            </a:r>
            <a:r>
              <a:rPr b="0" i="1" lang="sr-Latn-CS" sz="2700" spc="-1" strike="noStrike">
                <a:solidFill>
                  <a:srgbClr val="000000"/>
                </a:solidFill>
                <a:latin typeface="Calibri"/>
              </a:rPr>
              <a:t>Escherichia coli, Proteus, Klebsiella, Enterobacter, Serratiae, Pseudomonas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) а много мање грам-позитивне (</a:t>
            </a:r>
            <a:r>
              <a:rPr b="0" i="1" lang="sr-Latn-CS" sz="2700" spc="-1" strike="noStrike">
                <a:solidFill>
                  <a:srgbClr val="000000"/>
                </a:solidFill>
                <a:latin typeface="Calibri"/>
              </a:rPr>
              <a:t>Staphylococcus saprophyticus, Staphylococcus aureus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Аденовируси (деца и млађи адолесценти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Кандид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Микобактерија туберкулоз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cc"/>
                </a:solidFill>
                <a:latin typeface="Calibri"/>
              </a:rPr>
              <a:t>ПАТОГЕ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13" descr="Slika 1.jpg"/>
          <p:cNvPicPr/>
          <p:nvPr/>
        </p:nvPicPr>
        <p:blipFill>
          <a:blip r:embed="rId2"/>
          <a:stretch/>
        </p:blipFill>
        <p:spPr>
          <a:xfrm>
            <a:off x="428760" y="1500120"/>
            <a:ext cx="82864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0T14:31:17Z</dcterms:created>
  <dc:creator>Windows User</dc:creator>
  <dc:description/>
  <dc:language>en-US</dc:language>
  <cp:lastModifiedBy>Windows User</cp:lastModifiedBy>
  <dcterms:modified xsi:type="dcterms:W3CDTF">2020-01-20T15:05:49Z</dcterms:modified>
  <cp:revision>4</cp:revision>
  <dc:subject/>
  <dc:title>Инфекције мокраћних путева</dc:title>
</cp:coreProperties>
</file>